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2FE-8A98-449D-BAA0-141B0C2E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4A83-C994-4F76-902D-8D387949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9F02-B43F-48DE-9376-7808665D7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00B3-2511-4E81-8AC7-0C2153FBA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E84DF-3066-4E4E-9B6E-819C1F77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38CC-DC10-49A8-8C28-44A3EEC8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A6AC-7816-4154-8745-E39693093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0296-BF0F-4925-BB1F-170403F3A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9D6D-C544-4999-92F6-C81AB9E72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0E96-A1D2-4358-B425-A7B2B5AB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A2F55-2AC3-47AA-AFB8-92227F0F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973D-DBB7-467B-A613-51D30FC1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0ACA3-9609-4B7B-82C9-5136761D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B41A-2F5B-4009-9AA8-A3FE3447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F354-5806-49B4-B6D1-25AB9C26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28AF-070E-4459-B35F-8EBCD606E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530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91400" y="198108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146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530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91400" y="4130640"/>
            <a:ext cx="2036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DE0B-CE24-47E3-81A9-5865854A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1553-EBB7-4754-B57F-6394C80F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7244-6032-4A89-96DE-21743C12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A147-82FF-45D7-A34C-5ECD5BA75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057400" y="609120"/>
            <a:ext cx="6781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B27D-8E9E-41C2-BF4C-620CC62AF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0C99-C114-43B5-9A74-503B237B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755680" y="413064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CB6D-A313-4614-8296-CF114F6F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755680" y="1981080"/>
            <a:ext cx="3086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14600" y="4130640"/>
            <a:ext cx="63244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22F-8A28-49FE-BAA9-EA082598F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520"/>
            <a:ext cx="34290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D023-B5B2-44C0-8E79-B94558D19B11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F81F-4340-455D-BCFD-63D2FF4A1DA0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Harrington"/>
              </a:rPr>
              <a:t>Global Warming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438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ffff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By: Shyheeda Washington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Harrington"/>
              </a:rPr>
              <a:t>Dr. Scearce 7th period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Global Warm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arrington"/>
              </a:rPr>
              <a:t>Global warming</a:t>
            </a:r>
            <a:r>
              <a:rPr b="0" lang="en-US" sz="3400" spc="-1" strike="noStrike">
                <a:solidFill>
                  <a:srgbClr val="ffffff"/>
                </a:solidFill>
                <a:latin typeface="Harrington"/>
              </a:rPr>
              <a:t> is the increase in the average temperature of the Earth's near-surface air and oceans since the mid-twentieth century and its projected continua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14600" y="228600"/>
            <a:ext cx="6324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Sorts" charset="2"/>
              <a:buChar char="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Global near-surface temperatures have increased by 0.75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(1.35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F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) relative to the period 1860</a:t>
            </a:r>
            <a:r>
              <a:rPr b="0" lang="en-US" sz="2500" spc="-1" strike="noStrike">
                <a:solidFill>
                  <a:srgbClr val="ffffff"/>
                </a:solidFill>
                <a:latin typeface="Lucida Grande"/>
              </a:rPr>
              <a:t>�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1900, according to the instrumental temperature record. The urban heat island effect is estimated to account for about 0.02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of warming since 1900. Since 1979, land temperatures have increased about twice as fast as ocean temperatures (0.25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per decade against 0.13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per decade). Temperatures in the lower troposphere have increased between 0.12 and 0.22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C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 (0.22 and 0.4 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ｰ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F</a:t>
            </a:r>
            <a:r>
              <a:rPr b="0" lang="en-US" sz="2500" spc="-1" strike="noStrike">
                <a:solidFill>
                  <a:srgbClr val="ffffff"/>
                </a:solidFill>
                <a:latin typeface="Harrington"/>
              </a:rPr>
              <a:t>) per decade since 1979, according to satellite temperature measurement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14600" y="19810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256536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59:18Z</dcterms:created>
  <dc:creator>PA Department of Education</dc:creator>
  <dc:description/>
  <dc:language>en-US</dc:language>
  <cp:lastModifiedBy>PA Department of Education</cp:lastModifiedBy>
  <dcterms:modified xsi:type="dcterms:W3CDTF">2009-05-22T17:30:07Z</dcterms:modified>
  <cp:revision>3</cp:revision>
  <dc:subject/>
  <dc:title>Global Warming</dc:title>
</cp:coreProperties>
</file>